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66A2B-9057-4EBF-8F6D-B60462F3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74E8FE-5FA2-4C11-BD0B-CF009DE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5B2FF8-F690-46C9-84A2-7585D520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ED706-6FB2-4F65-917C-BF6E85C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A291C4-C5F6-42CD-B0F2-596A8B3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E484E-BC39-4611-841D-3902B78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A2BCAF-EE2E-49A8-9F02-A7CD5E47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96F8F4-F18C-4E17-8349-F559F680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E522F-A938-4199-9398-68974612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83D3C-4E01-4F33-8833-D21BFE15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99E42-2656-4866-BBFE-FBC2BE1A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AAF66-F2BC-4DFD-AEAD-19128957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E2D75-8137-4D77-99F8-4A2B64FB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13E17-036F-4C7B-A7FC-67AF8FDD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20B4E-6F26-4A9B-B69A-AF2AD605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ADA03-61E7-41F9-BD88-8851DBA6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23B08-C1F1-41C0-BD17-92AAD98B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E2AAE-E222-43F2-93BD-B5C83CBC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C3900-03B6-4B6A-9314-80C4C63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B9B3F-1A71-418F-90B8-AA13C5FF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84494-B439-4D1A-B8A2-4162E928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FC6C6-AC85-420E-9262-C3F65B53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CEDA0-2C35-441F-B2A4-39EBA54B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96904-060F-464B-83ED-850B5655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66003-262C-4F77-BA15-008FCEC3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56427-ABBA-4781-888D-AF34BCEF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977B9-7C52-475C-9D31-8ED3E23C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A62B7-CDEF-4C22-A525-5665C01A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59F77-34FE-44D5-8496-7874786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C87C7-AFEC-4E9B-BCE0-98E30CDB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9D46F-2D56-4E14-AD63-DD447E1B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F5D4C-9F5F-4404-A495-13A1ABF9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C0117-4CAC-431F-BB3E-C152406F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F6A38-ADF6-49C5-8A26-298A5C00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CAF39-97D2-490E-BEBC-6AD91417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D764B-8979-4268-B042-3CE8AF44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67CAD-91C1-45C2-9516-74C69C0D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99AA4-D6B9-42A7-B2FC-1330D7D1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EDC6E-82D8-4120-9B67-A0C3BABE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78821-F9D4-4A74-9844-FB47DC4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FD83F-B28E-440D-8692-B74B1225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78156-214B-4768-BD64-DE49334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32EE0-6666-4353-B8D0-8BA38BF5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54369-BCEF-49B4-A09D-FF70C818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BB43E-716C-498A-8375-C6B0BD0F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28FDC-AADA-4F91-848C-C3200252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82BD3-BD70-4933-A73F-190C275D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35CA3-85B8-41EF-B478-68F5A14C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354E1-32AB-48BA-A32F-FAD4231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F1DEC-BE36-4A46-9AE1-830993EF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03F06-D221-493F-A1CB-33CEC859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F8FE7-C6A6-4032-B5C8-1E27D9EF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62FD0-3922-4430-9D65-B1388B58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EA8AB-87C1-4129-A87C-90104C64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86E87-DBED-4E37-A4D2-56914E4F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D623F-D9E6-434E-AFEA-3348DC47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B5BDC-292E-4BC9-8CFE-27242F8F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82521-F3CF-4CDF-9F43-320D7605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F3665-148C-47F1-8943-51796D9C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39EAD-92F8-4F1A-909A-94D6BB18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3F0C6-4BD2-4191-B639-2FAC7FB2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2F58E-21FE-48E3-A844-16ABFA82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08A77-A0E7-4103-93C4-5E6904D4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BE9F4-B1E9-4F75-AE8B-299DCC78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07EDD-04EB-4C9C-B942-439318EF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FB3B7-0BB0-40D9-A0E2-E0E3254A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6CDF7-7E30-4B4C-9C4C-D7F8166D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A2CCE-17A3-4097-9D9A-8557AC3E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8DA27-2940-4D03-8681-88E846E2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4E3EE-CC72-4292-9353-52A869AF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45436-68EA-4CB1-B225-6A43878F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53FF2-1E1E-4F32-A0C6-A9F2068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2777A-8BB8-4988-8D7F-C761D90F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15560-C4C0-439A-81ED-47ABD13E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F74DD-8A6E-4667-B452-A4782204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15D7E-DAE8-4559-B62E-37413C3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94EEC-279D-4B6F-9E51-6B6CBF3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88490-A330-48D8-9E52-23762B62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0E7F4-DFF4-4C8E-A4A0-F548D378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A58A3-60F6-4ABE-989A-A1DFEFF1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4DB33-59C0-4A4F-AAFE-704BFA1F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39022D-189C-46D0-89B2-C4E89C45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215E3-3AB7-43A1-80E5-0A1F2E65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DE36E0-B090-40DE-B3CA-4FB67C10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21A11F-FB41-41F2-8209-605287A5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326D48-EA69-474B-9819-11A9B2B4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B44F5E-DCAB-4AE7-A58F-F15F62EF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E2D71E-CE75-4525-B993-D9E14D8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1D2D65-A558-4CCC-9CD4-0DDBB0AD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5E0157-33E0-4143-948F-37F19A7E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37B55D-5687-47E4-AAD4-64EC63CF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5E6A45-8893-4D49-934B-17F50704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B8A9F0-ECAD-4476-A72E-4C83E64B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928DE-BD4F-4D78-A381-A24C6E8F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B63D20-4686-4712-8B6C-F9C199C8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03BAF4-87F0-4E07-B0C3-78D25A74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E193-EFF6-43EC-9FC2-5428F01D22F8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E99-3A25-4370-9684-49E93675FCB6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D510-0BE2-43EB-A6C2-88761D190CAC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D7F4-0D39-4090-A03B-1570436C1134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FCDC-0F53-441A-AED6-3C46F06922B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40D1-503D-4779-BF27-B6DF4D90886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FE3B-0E44-4E6E-A3B0-9F9C8F93E49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3E61-65CC-484B-AF7D-267CE8C695A8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b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2462040" y="1319040"/>
            <a:ext cx="421992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b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0c28"/>
                </a:solidFill>
                <a:latin typeface="Comic Sans MS"/>
              </a:rPr>
              <a:t>The cubists wanted to show the whole structure of objects in their paintings without using techniques such as perspective or graded shading to make them look realistic</a:t>
            </a: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They wanted to show things as they really are – not just to show what they look li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124"/>
                </a:solidFill>
                <a:latin typeface="Comic Sans MS"/>
              </a:rPr>
              <a:t>Artists: Pablo Picasso; Paul Cezanne; Piet Mondri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picasso faces - Cerca amb Google | Pablo picasso art, Picasso portraits, Cubist  portraits"/>
          <p:cNvPicPr/>
          <p:nvPr/>
        </p:nvPicPr>
        <p:blipFill>
          <a:blip r:embed="rId1"/>
          <a:stretch/>
        </p:blipFill>
        <p:spPr>
          <a:xfrm>
            <a:off x="2787480" y="1052640"/>
            <a:ext cx="35690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Cubist Portrait | Cubist portraits, Psychology art creative, Abstract  drawings"/>
          <p:cNvPicPr/>
          <p:nvPr/>
        </p:nvPicPr>
        <p:blipFill>
          <a:blip r:embed="rId1"/>
          <a:stretch/>
        </p:blipFill>
        <p:spPr>
          <a:xfrm>
            <a:off x="2101680" y="907920"/>
            <a:ext cx="49406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What Caught My Eye: Mondrian Edition | Mondrian art, Piet mondrian, Mondrian"/>
          <p:cNvPicPr/>
          <p:nvPr/>
        </p:nvPicPr>
        <p:blipFill>
          <a:blip r:embed="rId1"/>
          <a:stretch/>
        </p:blipFill>
        <p:spPr>
          <a:xfrm>
            <a:off x="1886040" y="528480"/>
            <a:ext cx="537192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Pablo Picasso's 'joyful' portrait of daughter sells for £18m at Sotheby's |  UK News | Sky News"/>
          <p:cNvPicPr/>
          <p:nvPr/>
        </p:nvPicPr>
        <p:blipFill>
          <a:blip r:embed="rId1"/>
          <a:stretch/>
        </p:blipFill>
        <p:spPr>
          <a:xfrm>
            <a:off x="1454040" y="857160"/>
            <a:ext cx="6235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Pablo Picasso, Portrait of a Woman with a Hat, 1962, Bloch 1072, Linocut (S)"/>
          <p:cNvPicPr/>
          <p:nvPr/>
        </p:nvPicPr>
        <p:blipFill>
          <a:blip r:embed="rId1"/>
          <a:stretch/>
        </p:blipFill>
        <p:spPr>
          <a:xfrm>
            <a:off x="2716200" y="1197000"/>
            <a:ext cx="37116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n with straw hat, 1938 - Pablo Picasso - WikiArt.org"/>
          <p:cNvPicPr/>
          <p:nvPr/>
        </p:nvPicPr>
        <p:blipFill>
          <a:blip r:embed="rId1"/>
          <a:stretch/>
        </p:blipFill>
        <p:spPr>
          <a:xfrm>
            <a:off x="2228760" y="571680"/>
            <a:ext cx="4686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create a self-portrait using Cubist techniques. To do this you need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bright colou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bold patt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raw large simple sha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ll the whole piece of pap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0:27:10Z</dcterms:created>
  <dc:creator>Anne</dc:creator>
  <dc:description/>
  <dc:language>en-US</dc:language>
  <cp:lastModifiedBy>anne.pillar@gmail.com</cp:lastModifiedBy>
  <dcterms:modified xsi:type="dcterms:W3CDTF">2023-05-18T12:10:27Z</dcterms:modified>
  <cp:revision>13</cp:revision>
  <dc:subject/>
  <dc:title>Slide 1</dc:title>
</cp:coreProperties>
</file>